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30.png" ContentType="image/png"/>
  <Override PartName="/ppt/media/image24.wmf" ContentType="image/x-wmf"/>
  <Override PartName="/ppt/media/image28.png" ContentType="image/png"/>
  <Override PartName="/ppt/media/image1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6.wmf" ContentType="image/x-wmf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5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210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8210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9276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92760" y="376668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1400" y="121932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237360" y="121932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1400" y="376668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237360" y="3766680"/>
            <a:ext cx="2643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210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210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0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2760" y="1219320"/>
            <a:ext cx="400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52240" y="3780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760" y="1219320"/>
            <a:ext cx="400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06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276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92760" y="376668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2760" y="1219320"/>
            <a:ext cx="4006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8210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8210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37200" y="190440"/>
            <a:ext cx="1978200" cy="526680"/>
            <a:chOff x="6937200" y="190440"/>
            <a:chExt cx="1978200" cy="526680"/>
          </a:xfrm>
        </p:grpSpPr>
        <p:sp>
          <p:nvSpPr>
            <p:cNvPr id="3" name=""/>
            <p:cNvSpPr/>
            <p:nvPr/>
          </p:nvSpPr>
          <p:spPr>
            <a:xfrm>
              <a:off x="8124840" y="217080"/>
              <a:ext cx="379440" cy="500040"/>
            </a:xfrm>
            <a:custGeom>
              <a:avLst/>
              <a:gdLst/>
              <a:ahLst/>
              <a:rect l="l" t="t" r="r" b="b"/>
              <a:pathLst>
                <a:path w="239" h="315">
                  <a:moveTo>
                    <a:pt x="238" y="66"/>
                  </a:moveTo>
                  <a:lnTo>
                    <a:pt x="53" y="0"/>
                  </a:lnTo>
                  <a:lnTo>
                    <a:pt x="7" y="48"/>
                  </a:lnTo>
                  <a:lnTo>
                    <a:pt x="2" y="60"/>
                  </a:lnTo>
                  <a:lnTo>
                    <a:pt x="1" y="71"/>
                  </a:lnTo>
                  <a:lnTo>
                    <a:pt x="1" y="144"/>
                  </a:lnTo>
                  <a:lnTo>
                    <a:pt x="4" y="155"/>
                  </a:lnTo>
                  <a:lnTo>
                    <a:pt x="11" y="165"/>
                  </a:lnTo>
                  <a:lnTo>
                    <a:pt x="36" y="181"/>
                  </a:lnTo>
                  <a:lnTo>
                    <a:pt x="0" y="222"/>
                  </a:lnTo>
                  <a:lnTo>
                    <a:pt x="1" y="270"/>
                  </a:lnTo>
                  <a:lnTo>
                    <a:pt x="6" y="287"/>
                  </a:lnTo>
                  <a:lnTo>
                    <a:pt x="15" y="299"/>
                  </a:lnTo>
                  <a:lnTo>
                    <a:pt x="24" y="306"/>
                  </a:lnTo>
                  <a:lnTo>
                    <a:pt x="36" y="312"/>
                  </a:lnTo>
                  <a:lnTo>
                    <a:pt x="51" y="314"/>
                  </a:lnTo>
                  <a:lnTo>
                    <a:pt x="146" y="314"/>
                  </a:lnTo>
                  <a:lnTo>
                    <a:pt x="161" y="310"/>
                  </a:lnTo>
                  <a:lnTo>
                    <a:pt x="177" y="300"/>
                  </a:lnTo>
                  <a:lnTo>
                    <a:pt x="181" y="297"/>
                  </a:lnTo>
                  <a:lnTo>
                    <a:pt x="228" y="247"/>
                  </a:lnTo>
                  <a:lnTo>
                    <a:pt x="205" y="111"/>
                  </a:lnTo>
                  <a:lnTo>
                    <a:pt x="238" y="66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08680" y="217080"/>
              <a:ext cx="385920" cy="49824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47" y="0"/>
                  </a:moveTo>
                  <a:lnTo>
                    <a:pt x="10" y="41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313"/>
                  </a:lnTo>
                  <a:lnTo>
                    <a:pt x="84" y="313"/>
                  </a:lnTo>
                  <a:lnTo>
                    <a:pt x="114" y="285"/>
                  </a:lnTo>
                  <a:lnTo>
                    <a:pt x="114" y="313"/>
                  </a:lnTo>
                  <a:lnTo>
                    <a:pt x="197" y="313"/>
                  </a:lnTo>
                  <a:lnTo>
                    <a:pt x="242" y="267"/>
                  </a:lnTo>
                  <a:lnTo>
                    <a:pt x="242" y="49"/>
                  </a:lnTo>
                  <a:lnTo>
                    <a:pt x="47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292880" y="209160"/>
              <a:ext cx="379440" cy="504720"/>
            </a:xfrm>
            <a:custGeom>
              <a:avLst/>
              <a:gdLst/>
              <a:ahLst/>
              <a:rect l="l" t="t" r="r" b="b"/>
              <a:pathLst>
                <a:path w="239" h="318">
                  <a:moveTo>
                    <a:pt x="49" y="0"/>
                  </a:moveTo>
                  <a:lnTo>
                    <a:pt x="10" y="41"/>
                  </a:lnTo>
                  <a:lnTo>
                    <a:pt x="10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3" y="53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317"/>
                  </a:lnTo>
                  <a:lnTo>
                    <a:pt x="83" y="317"/>
                  </a:lnTo>
                  <a:lnTo>
                    <a:pt x="109" y="289"/>
                  </a:lnTo>
                  <a:lnTo>
                    <a:pt x="109" y="317"/>
                  </a:lnTo>
                  <a:lnTo>
                    <a:pt x="194" y="317"/>
                  </a:lnTo>
                  <a:lnTo>
                    <a:pt x="238" y="269"/>
                  </a:lnTo>
                  <a:lnTo>
                    <a:pt x="238" y="26"/>
                  </a:lnTo>
                  <a:lnTo>
                    <a:pt x="49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37200" y="193320"/>
              <a:ext cx="322560" cy="523800"/>
            </a:xfrm>
            <a:custGeom>
              <a:avLst/>
              <a:gdLst/>
              <a:ahLst/>
              <a:rect l="l" t="t" r="r" b="b"/>
              <a:pathLst>
                <a:path w="203" h="330">
                  <a:moveTo>
                    <a:pt x="125" y="0"/>
                  </a:moveTo>
                  <a:lnTo>
                    <a:pt x="43" y="0"/>
                  </a:lnTo>
                  <a:lnTo>
                    <a:pt x="0" y="46"/>
                  </a:lnTo>
                  <a:lnTo>
                    <a:pt x="0" y="329"/>
                  </a:lnTo>
                  <a:lnTo>
                    <a:pt x="162" y="329"/>
                  </a:lnTo>
                  <a:lnTo>
                    <a:pt x="202" y="281"/>
                  </a:lnTo>
                  <a:lnTo>
                    <a:pt x="202" y="213"/>
                  </a:lnTo>
                  <a:lnTo>
                    <a:pt x="125" y="213"/>
                  </a:lnTo>
                  <a:lnTo>
                    <a:pt x="125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005600" y="193320"/>
              <a:ext cx="254160" cy="447480"/>
            </a:xfrm>
            <a:custGeom>
              <a:avLst/>
              <a:gdLst/>
              <a:ahLst/>
              <a:rect l="l" t="t" r="r" b="b"/>
              <a:pathLst>
                <a:path w="160" h="282">
                  <a:moveTo>
                    <a:pt x="159" y="281"/>
                  </a:moveTo>
                  <a:lnTo>
                    <a:pt x="159" y="213"/>
                  </a:lnTo>
                  <a:lnTo>
                    <a:pt x="82" y="21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281"/>
                  </a:lnTo>
                  <a:lnTo>
                    <a:pt x="159" y="281"/>
                  </a:lnTo>
                </a:path>
              </a:pathLst>
            </a:cu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61280" y="190440"/>
              <a:ext cx="311040" cy="447480"/>
            </a:xfrm>
            <a:custGeom>
              <a:avLst/>
              <a:gdLst/>
              <a:ahLst/>
              <a:rect l="l" t="t" r="r" b="b"/>
              <a:pathLst>
                <a:path w="196" h="282">
                  <a:moveTo>
                    <a:pt x="195" y="281"/>
                  </a:moveTo>
                  <a:lnTo>
                    <a:pt x="195" y="29"/>
                  </a:lnTo>
                  <a:lnTo>
                    <a:pt x="195" y="27"/>
                  </a:lnTo>
                  <a:lnTo>
                    <a:pt x="195" y="26"/>
                  </a:lnTo>
                  <a:lnTo>
                    <a:pt x="195" y="24"/>
                  </a:lnTo>
                  <a:lnTo>
                    <a:pt x="194" y="20"/>
                  </a:lnTo>
                  <a:lnTo>
                    <a:pt x="191" y="15"/>
                  </a:lnTo>
                  <a:lnTo>
                    <a:pt x="188" y="10"/>
                  </a:lnTo>
                  <a:lnTo>
                    <a:pt x="185" y="8"/>
                  </a:lnTo>
                  <a:lnTo>
                    <a:pt x="182" y="5"/>
                  </a:lnTo>
                  <a:lnTo>
                    <a:pt x="179" y="4"/>
                  </a:lnTo>
                  <a:lnTo>
                    <a:pt x="175" y="2"/>
                  </a:lnTo>
                  <a:lnTo>
                    <a:pt x="170" y="1"/>
                  </a:lnTo>
                  <a:lnTo>
                    <a:pt x="16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281"/>
                  </a:lnTo>
                  <a:lnTo>
                    <a:pt x="80" y="281"/>
                  </a:lnTo>
                  <a:lnTo>
                    <a:pt x="80" y="213"/>
                  </a:lnTo>
                  <a:lnTo>
                    <a:pt x="109" y="213"/>
                  </a:lnTo>
                  <a:lnTo>
                    <a:pt x="109" y="281"/>
                  </a:lnTo>
                  <a:lnTo>
                    <a:pt x="195" y="281"/>
                  </a:lnTo>
                </a:path>
              </a:pathLst>
            </a:cu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88360" y="282240"/>
              <a:ext cx="47520" cy="156960"/>
            </a:xfrm>
            <a:custGeom>
              <a:avLst/>
              <a:gdLst/>
              <a:ahLst/>
              <a:rect l="l" t="t" r="r" b="b"/>
              <a:pathLst>
                <a:path w="30" h="99">
                  <a:moveTo>
                    <a:pt x="0" y="0"/>
                  </a:moveTo>
                  <a:lnTo>
                    <a:pt x="29" y="0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0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8880" y="193320"/>
              <a:ext cx="317160" cy="448920"/>
            </a:xfrm>
            <a:custGeom>
              <a:avLst/>
              <a:gdLst/>
              <a:ahLst/>
              <a:rect l="l" t="t" r="r" b="b"/>
              <a:pathLst>
                <a:path w="200" h="283">
                  <a:moveTo>
                    <a:pt x="112" y="282"/>
                  </a:moveTo>
                  <a:lnTo>
                    <a:pt x="199" y="282"/>
                  </a:lnTo>
                  <a:lnTo>
                    <a:pt x="198" y="27"/>
                  </a:lnTo>
                  <a:lnTo>
                    <a:pt x="197" y="20"/>
                  </a:lnTo>
                  <a:lnTo>
                    <a:pt x="192" y="12"/>
                  </a:lnTo>
                  <a:lnTo>
                    <a:pt x="183" y="4"/>
                  </a:lnTo>
                  <a:lnTo>
                    <a:pt x="175" y="1"/>
                  </a:lnTo>
                  <a:lnTo>
                    <a:pt x="163" y="0"/>
                  </a:lnTo>
                  <a:lnTo>
                    <a:pt x="34" y="0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8" y="11"/>
                  </a:lnTo>
                  <a:lnTo>
                    <a:pt x="3" y="17"/>
                  </a:lnTo>
                  <a:lnTo>
                    <a:pt x="0" y="25"/>
                  </a:lnTo>
                  <a:lnTo>
                    <a:pt x="0" y="281"/>
                  </a:lnTo>
                  <a:lnTo>
                    <a:pt x="81" y="281"/>
                  </a:lnTo>
                  <a:lnTo>
                    <a:pt x="81" y="67"/>
                  </a:lnTo>
                  <a:lnTo>
                    <a:pt x="82" y="62"/>
                  </a:lnTo>
                  <a:lnTo>
                    <a:pt x="86" y="59"/>
                  </a:lnTo>
                  <a:lnTo>
                    <a:pt x="89" y="58"/>
                  </a:lnTo>
                  <a:lnTo>
                    <a:pt x="107" y="59"/>
                  </a:lnTo>
                  <a:lnTo>
                    <a:pt x="111" y="61"/>
                  </a:lnTo>
                  <a:lnTo>
                    <a:pt x="112" y="63"/>
                  </a:lnTo>
                  <a:lnTo>
                    <a:pt x="112" y="282"/>
                  </a:lnTo>
                </a:path>
              </a:pathLst>
            </a:cu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96120" y="193320"/>
              <a:ext cx="308160" cy="452160"/>
            </a:xfrm>
            <a:custGeom>
              <a:avLst/>
              <a:gdLst/>
              <a:ahLst/>
              <a:rect l="l" t="t" r="r" b="b"/>
              <a:pathLst>
                <a:path w="194" h="285">
                  <a:moveTo>
                    <a:pt x="193" y="81"/>
                  </a:moveTo>
                  <a:lnTo>
                    <a:pt x="193" y="33"/>
                  </a:lnTo>
                  <a:lnTo>
                    <a:pt x="189" y="24"/>
                  </a:lnTo>
                  <a:lnTo>
                    <a:pt x="182" y="14"/>
                  </a:lnTo>
                  <a:lnTo>
                    <a:pt x="176" y="8"/>
                  </a:lnTo>
                  <a:lnTo>
                    <a:pt x="166" y="3"/>
                  </a:lnTo>
                  <a:lnTo>
                    <a:pt x="155" y="0"/>
                  </a:lnTo>
                  <a:lnTo>
                    <a:pt x="44" y="0"/>
                  </a:lnTo>
                  <a:lnTo>
                    <a:pt x="31" y="3"/>
                  </a:lnTo>
                  <a:lnTo>
                    <a:pt x="14" y="10"/>
                  </a:lnTo>
                  <a:lnTo>
                    <a:pt x="7" y="15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0" y="114"/>
                  </a:lnTo>
                  <a:lnTo>
                    <a:pt x="6" y="127"/>
                  </a:lnTo>
                  <a:lnTo>
                    <a:pt x="15" y="137"/>
                  </a:lnTo>
                  <a:lnTo>
                    <a:pt x="27" y="147"/>
                  </a:lnTo>
                  <a:lnTo>
                    <a:pt x="102" y="182"/>
                  </a:lnTo>
                  <a:lnTo>
                    <a:pt x="107" y="188"/>
                  </a:lnTo>
                  <a:lnTo>
                    <a:pt x="108" y="193"/>
                  </a:lnTo>
                  <a:lnTo>
                    <a:pt x="108" y="217"/>
                  </a:lnTo>
                  <a:lnTo>
                    <a:pt x="74" y="217"/>
                  </a:lnTo>
                  <a:lnTo>
                    <a:pt x="74" y="193"/>
                  </a:lnTo>
                  <a:lnTo>
                    <a:pt x="0" y="193"/>
                  </a:lnTo>
                  <a:lnTo>
                    <a:pt x="0" y="236"/>
                  </a:lnTo>
                  <a:lnTo>
                    <a:pt x="7" y="255"/>
                  </a:lnTo>
                  <a:lnTo>
                    <a:pt x="16" y="268"/>
                  </a:lnTo>
                  <a:lnTo>
                    <a:pt x="30" y="279"/>
                  </a:lnTo>
                  <a:lnTo>
                    <a:pt x="42" y="283"/>
                  </a:lnTo>
                  <a:lnTo>
                    <a:pt x="48" y="284"/>
                  </a:lnTo>
                  <a:lnTo>
                    <a:pt x="148" y="283"/>
                  </a:lnTo>
                  <a:lnTo>
                    <a:pt x="160" y="279"/>
                  </a:lnTo>
                  <a:lnTo>
                    <a:pt x="173" y="271"/>
                  </a:lnTo>
                  <a:lnTo>
                    <a:pt x="182" y="263"/>
                  </a:lnTo>
                  <a:lnTo>
                    <a:pt x="189" y="252"/>
                  </a:lnTo>
                  <a:lnTo>
                    <a:pt x="192" y="238"/>
                  </a:lnTo>
                  <a:lnTo>
                    <a:pt x="193" y="229"/>
                  </a:lnTo>
                  <a:lnTo>
                    <a:pt x="193" y="163"/>
                  </a:lnTo>
                  <a:lnTo>
                    <a:pt x="190" y="154"/>
                  </a:lnTo>
                  <a:lnTo>
                    <a:pt x="183" y="144"/>
                  </a:lnTo>
                  <a:lnTo>
                    <a:pt x="170" y="133"/>
                  </a:lnTo>
                  <a:lnTo>
                    <a:pt x="86" y="91"/>
                  </a:lnTo>
                  <a:lnTo>
                    <a:pt x="79" y="83"/>
                  </a:lnTo>
                  <a:lnTo>
                    <a:pt x="76" y="73"/>
                  </a:lnTo>
                  <a:lnTo>
                    <a:pt x="75" y="58"/>
                  </a:lnTo>
                  <a:lnTo>
                    <a:pt x="108" y="58"/>
                  </a:lnTo>
                  <a:lnTo>
                    <a:pt x="108" y="81"/>
                  </a:lnTo>
                  <a:lnTo>
                    <a:pt x="193" y="81"/>
                  </a:lnTo>
                </a:path>
              </a:pathLst>
            </a:cu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35960" y="212400"/>
              <a:ext cx="379440" cy="504720"/>
            </a:xfrm>
            <a:custGeom>
              <a:avLst/>
              <a:gdLst/>
              <a:ahLst/>
              <a:rect l="l" t="t" r="r" b="b"/>
              <a:pathLst>
                <a:path w="239" h="318">
                  <a:moveTo>
                    <a:pt x="49" y="0"/>
                  </a:moveTo>
                  <a:lnTo>
                    <a:pt x="11" y="41"/>
                  </a:lnTo>
                  <a:lnTo>
                    <a:pt x="10" y="41"/>
                  </a:lnTo>
                  <a:lnTo>
                    <a:pt x="9" y="43"/>
                  </a:lnTo>
                  <a:lnTo>
                    <a:pt x="7" y="45"/>
                  </a:lnTo>
                  <a:lnTo>
                    <a:pt x="5" y="49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317"/>
                  </a:lnTo>
                  <a:lnTo>
                    <a:pt x="84" y="317"/>
                  </a:lnTo>
                  <a:lnTo>
                    <a:pt x="110" y="289"/>
                  </a:lnTo>
                  <a:lnTo>
                    <a:pt x="110" y="317"/>
                  </a:lnTo>
                  <a:lnTo>
                    <a:pt x="194" y="317"/>
                  </a:lnTo>
                  <a:lnTo>
                    <a:pt x="238" y="269"/>
                  </a:lnTo>
                  <a:lnTo>
                    <a:pt x="238" y="26"/>
                  </a:lnTo>
                  <a:lnTo>
                    <a:pt x="49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04360" y="193320"/>
              <a:ext cx="311040" cy="447480"/>
            </a:xfrm>
            <a:custGeom>
              <a:avLst/>
              <a:gdLst/>
              <a:ahLst/>
              <a:rect l="l" t="t" r="r" b="b"/>
              <a:pathLst>
                <a:path w="196" h="282">
                  <a:moveTo>
                    <a:pt x="195" y="281"/>
                  </a:moveTo>
                  <a:lnTo>
                    <a:pt x="195" y="28"/>
                  </a:lnTo>
                  <a:lnTo>
                    <a:pt x="195" y="27"/>
                  </a:lnTo>
                  <a:lnTo>
                    <a:pt x="195" y="26"/>
                  </a:lnTo>
                  <a:lnTo>
                    <a:pt x="195" y="24"/>
                  </a:lnTo>
                  <a:lnTo>
                    <a:pt x="194" y="20"/>
                  </a:lnTo>
                  <a:lnTo>
                    <a:pt x="191" y="15"/>
                  </a:lnTo>
                  <a:lnTo>
                    <a:pt x="188" y="10"/>
                  </a:lnTo>
                  <a:lnTo>
                    <a:pt x="185" y="8"/>
                  </a:lnTo>
                  <a:lnTo>
                    <a:pt x="182" y="5"/>
                  </a:lnTo>
                  <a:lnTo>
                    <a:pt x="179" y="3"/>
                  </a:lnTo>
                  <a:lnTo>
                    <a:pt x="175" y="2"/>
                  </a:lnTo>
                  <a:lnTo>
                    <a:pt x="170" y="0"/>
                  </a:lnTo>
                  <a:lnTo>
                    <a:pt x="16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281"/>
                  </a:lnTo>
                  <a:lnTo>
                    <a:pt x="80" y="281"/>
                  </a:lnTo>
                  <a:lnTo>
                    <a:pt x="80" y="213"/>
                  </a:lnTo>
                  <a:lnTo>
                    <a:pt x="109" y="213"/>
                  </a:lnTo>
                  <a:lnTo>
                    <a:pt x="109" y="281"/>
                  </a:lnTo>
                  <a:lnTo>
                    <a:pt x="195" y="281"/>
                  </a:lnTo>
                </a:path>
              </a:pathLst>
            </a:cu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31080" y="285480"/>
              <a:ext cx="47880" cy="156960"/>
            </a:xfrm>
            <a:custGeom>
              <a:avLst/>
              <a:gdLst/>
              <a:ahLst/>
              <a:rect l="l" t="t" r="r" b="b"/>
              <a:pathLst>
                <a:path w="30" h="99">
                  <a:moveTo>
                    <a:pt x="0" y="0"/>
                  </a:moveTo>
                  <a:lnTo>
                    <a:pt x="29" y="0"/>
                  </a:lnTo>
                  <a:lnTo>
                    <a:pt x="29" y="98"/>
                  </a:lnTo>
                  <a:lnTo>
                    <a:pt x="0" y="98"/>
                  </a:lnTo>
                  <a:lnTo>
                    <a:pt x="0" y="0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7621920" y="76212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4960" cy="196848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3"/>
          <a:stretch/>
        </p:blipFill>
        <p:spPr>
          <a:xfrm>
            <a:off x="8432640" y="4672080"/>
            <a:ext cx="755640" cy="22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990099"/>
                </a:solidFill>
                <a:latin typeface="Arial"/>
              </a:rPr>
              <a:t>Java Services Framework</a:t>
            </a:r>
            <a:endParaRPr b="0" i="1" lang="en-US" sz="4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7040" y="5969160"/>
            <a:ext cx="455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Kuala Lumpur, August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419720"/>
            <a:ext cx="64008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ane Joester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NSA Asia-Pa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11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09960" y="2131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57440" y="1452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0400" y="13176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3284640"/>
            <a:ext cx="1432080" cy="1611360"/>
          </a:xfrm>
          <a:custGeom>
            <a:avLst/>
            <a:gdLst/>
            <a:ahLst/>
            <a:rect l="l" t="t" r="r" b="b"/>
            <a:pathLst>
              <a:path w="2032" h="2282">
                <a:moveTo>
                  <a:pt x="1641" y="2281"/>
                </a:moveTo>
                <a:lnTo>
                  <a:pt x="652" y="2282"/>
                </a:lnTo>
                <a:lnTo>
                  <a:pt x="641" y="2198"/>
                </a:lnTo>
                <a:lnTo>
                  <a:pt x="619" y="2114"/>
                </a:lnTo>
                <a:lnTo>
                  <a:pt x="600" y="2050"/>
                </a:lnTo>
                <a:lnTo>
                  <a:pt x="588" y="2021"/>
                </a:lnTo>
                <a:lnTo>
                  <a:pt x="574" y="1994"/>
                </a:lnTo>
                <a:lnTo>
                  <a:pt x="551" y="1962"/>
                </a:lnTo>
                <a:lnTo>
                  <a:pt x="531" y="1940"/>
                </a:lnTo>
                <a:lnTo>
                  <a:pt x="494" y="1908"/>
                </a:lnTo>
                <a:lnTo>
                  <a:pt x="445" y="1878"/>
                </a:lnTo>
                <a:lnTo>
                  <a:pt x="428" y="1870"/>
                </a:lnTo>
                <a:lnTo>
                  <a:pt x="405" y="1859"/>
                </a:lnTo>
                <a:lnTo>
                  <a:pt x="372" y="1849"/>
                </a:lnTo>
                <a:lnTo>
                  <a:pt x="304" y="1840"/>
                </a:lnTo>
                <a:lnTo>
                  <a:pt x="198" y="1833"/>
                </a:lnTo>
                <a:lnTo>
                  <a:pt x="161" y="1821"/>
                </a:lnTo>
                <a:lnTo>
                  <a:pt x="135" y="1806"/>
                </a:lnTo>
                <a:lnTo>
                  <a:pt x="112" y="1783"/>
                </a:lnTo>
                <a:lnTo>
                  <a:pt x="105" y="1773"/>
                </a:lnTo>
                <a:lnTo>
                  <a:pt x="95" y="1753"/>
                </a:lnTo>
                <a:lnTo>
                  <a:pt x="88" y="1734"/>
                </a:lnTo>
                <a:lnTo>
                  <a:pt x="85" y="1708"/>
                </a:lnTo>
                <a:lnTo>
                  <a:pt x="87" y="1688"/>
                </a:lnTo>
                <a:lnTo>
                  <a:pt x="91" y="1667"/>
                </a:lnTo>
                <a:lnTo>
                  <a:pt x="100" y="1642"/>
                </a:lnTo>
                <a:lnTo>
                  <a:pt x="107" y="1627"/>
                </a:lnTo>
                <a:lnTo>
                  <a:pt x="112" y="1609"/>
                </a:lnTo>
                <a:lnTo>
                  <a:pt x="113" y="1587"/>
                </a:lnTo>
                <a:lnTo>
                  <a:pt x="105" y="1548"/>
                </a:lnTo>
                <a:lnTo>
                  <a:pt x="96" y="1523"/>
                </a:lnTo>
                <a:lnTo>
                  <a:pt x="79" y="1504"/>
                </a:lnTo>
                <a:lnTo>
                  <a:pt x="72" y="1491"/>
                </a:lnTo>
                <a:lnTo>
                  <a:pt x="68" y="1478"/>
                </a:lnTo>
                <a:lnTo>
                  <a:pt x="67" y="1463"/>
                </a:lnTo>
                <a:lnTo>
                  <a:pt x="68" y="1442"/>
                </a:lnTo>
                <a:lnTo>
                  <a:pt x="70" y="1433"/>
                </a:lnTo>
                <a:lnTo>
                  <a:pt x="81" y="1418"/>
                </a:lnTo>
                <a:lnTo>
                  <a:pt x="104" y="1401"/>
                </a:lnTo>
                <a:lnTo>
                  <a:pt x="113" y="1392"/>
                </a:lnTo>
                <a:lnTo>
                  <a:pt x="107" y="1385"/>
                </a:lnTo>
                <a:lnTo>
                  <a:pt x="100" y="1379"/>
                </a:lnTo>
                <a:lnTo>
                  <a:pt x="76" y="1366"/>
                </a:lnTo>
                <a:lnTo>
                  <a:pt x="69" y="1359"/>
                </a:lnTo>
                <a:lnTo>
                  <a:pt x="64" y="1351"/>
                </a:lnTo>
                <a:lnTo>
                  <a:pt x="59" y="1340"/>
                </a:lnTo>
                <a:lnTo>
                  <a:pt x="61" y="1327"/>
                </a:lnTo>
                <a:lnTo>
                  <a:pt x="67" y="1310"/>
                </a:lnTo>
                <a:lnTo>
                  <a:pt x="89" y="1267"/>
                </a:lnTo>
                <a:lnTo>
                  <a:pt x="96" y="1237"/>
                </a:lnTo>
                <a:lnTo>
                  <a:pt x="91" y="1219"/>
                </a:lnTo>
                <a:lnTo>
                  <a:pt x="81" y="1198"/>
                </a:lnTo>
                <a:lnTo>
                  <a:pt x="14" y="1154"/>
                </a:lnTo>
                <a:lnTo>
                  <a:pt x="4" y="1140"/>
                </a:lnTo>
                <a:lnTo>
                  <a:pt x="0" y="1123"/>
                </a:lnTo>
                <a:lnTo>
                  <a:pt x="0" y="1100"/>
                </a:lnTo>
                <a:lnTo>
                  <a:pt x="5" y="1082"/>
                </a:lnTo>
                <a:lnTo>
                  <a:pt x="13" y="1061"/>
                </a:lnTo>
                <a:lnTo>
                  <a:pt x="21" y="1049"/>
                </a:lnTo>
                <a:lnTo>
                  <a:pt x="180" y="874"/>
                </a:lnTo>
                <a:lnTo>
                  <a:pt x="201" y="842"/>
                </a:lnTo>
                <a:lnTo>
                  <a:pt x="221" y="796"/>
                </a:lnTo>
                <a:lnTo>
                  <a:pt x="229" y="758"/>
                </a:lnTo>
                <a:lnTo>
                  <a:pt x="232" y="730"/>
                </a:lnTo>
                <a:lnTo>
                  <a:pt x="231" y="700"/>
                </a:lnTo>
                <a:lnTo>
                  <a:pt x="229" y="682"/>
                </a:lnTo>
                <a:lnTo>
                  <a:pt x="232" y="627"/>
                </a:lnTo>
                <a:lnTo>
                  <a:pt x="241" y="556"/>
                </a:lnTo>
                <a:lnTo>
                  <a:pt x="263" y="472"/>
                </a:lnTo>
                <a:lnTo>
                  <a:pt x="280" y="424"/>
                </a:lnTo>
                <a:lnTo>
                  <a:pt x="318" y="348"/>
                </a:lnTo>
                <a:lnTo>
                  <a:pt x="377" y="265"/>
                </a:lnTo>
                <a:lnTo>
                  <a:pt x="438" y="200"/>
                </a:lnTo>
                <a:lnTo>
                  <a:pt x="544" y="123"/>
                </a:lnTo>
                <a:lnTo>
                  <a:pt x="615" y="86"/>
                </a:lnTo>
                <a:lnTo>
                  <a:pt x="743" y="40"/>
                </a:lnTo>
                <a:lnTo>
                  <a:pt x="934" y="5"/>
                </a:lnTo>
                <a:lnTo>
                  <a:pt x="1128" y="0"/>
                </a:lnTo>
                <a:lnTo>
                  <a:pt x="1265" y="14"/>
                </a:lnTo>
                <a:lnTo>
                  <a:pt x="1369" y="37"/>
                </a:lnTo>
                <a:lnTo>
                  <a:pt x="1535" y="101"/>
                </a:lnTo>
                <a:lnTo>
                  <a:pt x="1642" y="165"/>
                </a:lnTo>
                <a:lnTo>
                  <a:pt x="1720" y="225"/>
                </a:lnTo>
                <a:lnTo>
                  <a:pt x="1824" y="328"/>
                </a:lnTo>
                <a:lnTo>
                  <a:pt x="1912" y="446"/>
                </a:lnTo>
                <a:lnTo>
                  <a:pt x="1973" y="562"/>
                </a:lnTo>
                <a:lnTo>
                  <a:pt x="2007" y="664"/>
                </a:lnTo>
                <a:lnTo>
                  <a:pt x="2026" y="767"/>
                </a:lnTo>
                <a:lnTo>
                  <a:pt x="2032" y="901"/>
                </a:lnTo>
                <a:lnTo>
                  <a:pt x="2022" y="1008"/>
                </a:lnTo>
                <a:lnTo>
                  <a:pt x="1983" y="1165"/>
                </a:lnTo>
                <a:lnTo>
                  <a:pt x="1941" y="1261"/>
                </a:lnTo>
                <a:lnTo>
                  <a:pt x="1866" y="1365"/>
                </a:lnTo>
                <a:lnTo>
                  <a:pt x="1649" y="1614"/>
                </a:lnTo>
                <a:lnTo>
                  <a:pt x="1592" y="1707"/>
                </a:lnTo>
                <a:lnTo>
                  <a:pt x="1570" y="1756"/>
                </a:lnTo>
                <a:lnTo>
                  <a:pt x="1550" y="1833"/>
                </a:lnTo>
                <a:lnTo>
                  <a:pt x="1546" y="1916"/>
                </a:lnTo>
                <a:lnTo>
                  <a:pt x="1555" y="1974"/>
                </a:lnTo>
                <a:lnTo>
                  <a:pt x="1563" y="2004"/>
                </a:lnTo>
                <a:lnTo>
                  <a:pt x="1641" y="22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24040" y="13176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4520" y="2320920"/>
            <a:ext cx="800280" cy="603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2001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88080" y="1898640"/>
            <a:ext cx="515880" cy="299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88080" y="2476440"/>
            <a:ext cx="515880" cy="2984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88080" y="2982960"/>
            <a:ext cx="515880" cy="3016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3920" y="1898640"/>
            <a:ext cx="515880" cy="2998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3920" y="2476440"/>
            <a:ext cx="515880" cy="2984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2982960"/>
            <a:ext cx="515880" cy="3016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8" idx="1"/>
          </p:cNvCxnSpPr>
          <p:nvPr/>
        </p:nvCxnSpPr>
        <p:spPr>
          <a:xfrm>
            <a:off x="6454800" y="2622240"/>
            <a:ext cx="234000" cy="396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34" name=""/>
          <p:cNvCxnSpPr>
            <a:stCxn id="126" idx="3"/>
            <a:endCxn id="127" idx="1"/>
          </p:cNvCxnSpPr>
          <p:nvPr/>
        </p:nvCxnSpPr>
        <p:spPr>
          <a:xfrm flipV="1">
            <a:off x="6454800" y="2050560"/>
            <a:ext cx="234000" cy="5724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35" name=""/>
          <p:cNvCxnSpPr>
            <a:stCxn id="126" idx="3"/>
            <a:endCxn id="129" idx="1"/>
          </p:cNvCxnSpPr>
          <p:nvPr/>
        </p:nvCxnSpPr>
        <p:spPr>
          <a:xfrm>
            <a:off x="6454800" y="2622240"/>
            <a:ext cx="234000" cy="5101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36" name=""/>
          <p:cNvCxnSpPr>
            <a:stCxn id="130" idx="3"/>
            <a:endCxn id="126" idx="1"/>
          </p:cNvCxnSpPr>
          <p:nvPr/>
        </p:nvCxnSpPr>
        <p:spPr>
          <a:xfrm>
            <a:off x="5419800" y="2050920"/>
            <a:ext cx="235440" cy="5724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37" name=""/>
          <p:cNvCxnSpPr>
            <a:stCxn id="131" idx="3"/>
            <a:endCxn id="126" idx="1"/>
          </p:cNvCxnSpPr>
          <p:nvPr/>
        </p:nvCxnSpPr>
        <p:spPr>
          <a:xfrm flipV="1">
            <a:off x="5419800" y="2621880"/>
            <a:ext cx="235440" cy="396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38" name=""/>
          <p:cNvCxnSpPr>
            <a:stCxn id="132" idx="3"/>
            <a:endCxn id="126" idx="1"/>
          </p:cNvCxnSpPr>
          <p:nvPr/>
        </p:nvCxnSpPr>
        <p:spPr>
          <a:xfrm flipV="1">
            <a:off x="5419800" y="2621880"/>
            <a:ext cx="235440" cy="5101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270400" y="1452600"/>
            <a:ext cx="177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 Trading Exchan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Verti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2352600"/>
            <a:ext cx="822240" cy="6256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2001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l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63800" y="1914480"/>
            <a:ext cx="532080" cy="3128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63800" y="2514600"/>
            <a:ext cx="532080" cy="309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63800" y="3040200"/>
            <a:ext cx="532080" cy="3110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7080" y="1914480"/>
            <a:ext cx="532080" cy="3128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27080" y="2514600"/>
            <a:ext cx="532080" cy="309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7080" y="3040200"/>
            <a:ext cx="532080" cy="3110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0" idx="3"/>
            <a:endCxn id="142" idx="1"/>
          </p:cNvCxnSpPr>
          <p:nvPr/>
        </p:nvCxnSpPr>
        <p:spPr>
          <a:xfrm>
            <a:off x="3522600" y="2665080"/>
            <a:ext cx="241920" cy="54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48" name=""/>
          <p:cNvCxnSpPr>
            <a:stCxn id="140" idx="3"/>
            <a:endCxn id="141" idx="1"/>
          </p:cNvCxnSpPr>
          <p:nvPr/>
        </p:nvCxnSpPr>
        <p:spPr>
          <a:xfrm flipV="1">
            <a:off x="3522600" y="2071080"/>
            <a:ext cx="241920" cy="59436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49" name=""/>
          <p:cNvCxnSpPr>
            <a:stCxn id="140" idx="3"/>
            <a:endCxn id="143" idx="1"/>
          </p:cNvCxnSpPr>
          <p:nvPr/>
        </p:nvCxnSpPr>
        <p:spPr>
          <a:xfrm>
            <a:off x="3522600" y="2665080"/>
            <a:ext cx="241920" cy="5324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50" name=""/>
          <p:cNvCxnSpPr>
            <a:stCxn id="144" idx="3"/>
            <a:endCxn id="140" idx="1"/>
          </p:cNvCxnSpPr>
          <p:nvPr/>
        </p:nvCxnSpPr>
        <p:spPr>
          <a:xfrm>
            <a:off x="2459160" y="2071440"/>
            <a:ext cx="241920" cy="59436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51" name=""/>
          <p:cNvCxnSpPr>
            <a:stCxn id="145" idx="3"/>
            <a:endCxn id="140" idx="1"/>
          </p:cNvCxnSpPr>
          <p:nvPr/>
        </p:nvCxnSpPr>
        <p:spPr>
          <a:xfrm flipV="1">
            <a:off x="2459160" y="2664720"/>
            <a:ext cx="241920" cy="54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52" name=""/>
          <p:cNvCxnSpPr>
            <a:stCxn id="146" idx="3"/>
            <a:endCxn id="140" idx="1"/>
          </p:cNvCxnSpPr>
          <p:nvPr/>
        </p:nvCxnSpPr>
        <p:spPr>
          <a:xfrm flipV="1">
            <a:off x="2459160" y="2664720"/>
            <a:ext cx="241920" cy="5324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2303640" y="1452600"/>
            <a:ext cx="1830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iliated-Based Mod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orizon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2640" y="4494240"/>
            <a:ext cx="834840" cy="631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2001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1080" y="3759120"/>
            <a:ext cx="1855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intermedi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27080" y="4524480"/>
            <a:ext cx="879480" cy="5652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2001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6"/>
            <a:endCxn id="154" idx="1"/>
          </p:cNvCxnSpPr>
          <p:nvPr/>
        </p:nvCxnSpPr>
        <p:spPr>
          <a:xfrm>
            <a:off x="2806560" y="4806720"/>
            <a:ext cx="586800" cy="54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5354640" y="3759120"/>
            <a:ext cx="1604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b-Bas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4200" y="4572000"/>
            <a:ext cx="654120" cy="560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62001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80200" y="4419720"/>
            <a:ext cx="296640" cy="25380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73840" y="4216320"/>
            <a:ext cx="296640" cy="25416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38880" y="5030640"/>
            <a:ext cx="296640" cy="25416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67480" y="4419720"/>
            <a:ext cx="297000" cy="25380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08800" y="5030640"/>
            <a:ext cx="296640" cy="25416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73840" y="5234040"/>
            <a:ext cx="296640" cy="253800"/>
          </a:xfrm>
          <a:prstGeom prst="ellipse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0" idx="6"/>
            <a:endCxn id="159" idx="1"/>
          </p:cNvCxnSpPr>
          <p:nvPr/>
        </p:nvCxnSpPr>
        <p:spPr>
          <a:xfrm>
            <a:off x="5676480" y="4546440"/>
            <a:ext cx="214920" cy="1087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67" name=""/>
          <p:cNvCxnSpPr>
            <a:stCxn id="161" idx="4"/>
            <a:endCxn id="159" idx="0"/>
          </p:cNvCxnSpPr>
          <p:nvPr/>
        </p:nvCxnSpPr>
        <p:spPr>
          <a:xfrm>
            <a:off x="6121080" y="4470480"/>
            <a:ext cx="1080" cy="1022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68" name=""/>
          <p:cNvCxnSpPr>
            <a:stCxn id="163" idx="2"/>
            <a:endCxn id="159" idx="7"/>
          </p:cNvCxnSpPr>
          <p:nvPr/>
        </p:nvCxnSpPr>
        <p:spPr>
          <a:xfrm flipH="1">
            <a:off x="6352560" y="4546440"/>
            <a:ext cx="214920" cy="1087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69" name=""/>
          <p:cNvCxnSpPr>
            <a:stCxn id="159" idx="4"/>
            <a:endCxn id="165" idx="0"/>
          </p:cNvCxnSpPr>
          <p:nvPr/>
        </p:nvCxnSpPr>
        <p:spPr>
          <a:xfrm>
            <a:off x="6121080" y="5132520"/>
            <a:ext cx="1080" cy="1022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0" name=""/>
          <p:cNvCxnSpPr>
            <a:stCxn id="159" idx="3"/>
            <a:endCxn id="162" idx="6"/>
          </p:cNvCxnSpPr>
          <p:nvPr/>
        </p:nvCxnSpPr>
        <p:spPr>
          <a:xfrm flipH="1">
            <a:off x="5735520" y="5049720"/>
            <a:ext cx="155880" cy="1087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1" name=""/>
          <p:cNvCxnSpPr>
            <a:stCxn id="159" idx="5"/>
            <a:endCxn id="164" idx="2"/>
          </p:cNvCxnSpPr>
          <p:nvPr/>
        </p:nvCxnSpPr>
        <p:spPr>
          <a:xfrm>
            <a:off x="6353280" y="5049720"/>
            <a:ext cx="155880" cy="1087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5319720" y="4064040"/>
            <a:ext cx="47448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46760" y="4064040"/>
            <a:ext cx="47484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64480" y="4826160"/>
            <a:ext cx="47628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5386320"/>
            <a:ext cx="4161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81760" y="5335560"/>
            <a:ext cx="47592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3920" y="4724280"/>
            <a:ext cx="47628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4040" y="1317600"/>
            <a:ext cx="588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33920" y="13176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24040" y="3622680"/>
            <a:ext cx="588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5715000"/>
            <a:ext cx="588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1000" y="1521000"/>
            <a:ext cx="6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2960" y="5154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3520" y="5861160"/>
            <a:ext cx="6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62880" y="583236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44960" y="5927760"/>
            <a:ext cx="34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/Process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87800" y="322956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6400800"/>
            <a:ext cx="238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AMR Resear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8680" y="2058840"/>
            <a:ext cx="81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Ari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03600" y="4199040"/>
            <a:ext cx="81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9760" y="4151160"/>
            <a:ext cx="81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6840" y="2022480"/>
            <a:ext cx="8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e-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On-Line Trading Community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86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www.songfile.com </a:t>
            </a:r>
            <a:br>
              <a:rPr sz="4000"/>
            </a:b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Music Marketplace</a:t>
            </a:r>
            <a:endParaRPr b="0" i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ional Music Publishers Association’s  (NMPA) 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 engine for consumers on the web, portal site for music indust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grate with partners - Amazon.com, JW Pepper to sell their offerin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icensing: Offers online licensing, credit card processing, and B2B interfaces for publishers and recording compan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847880"/>
            <a:ext cx="403848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0" y="0"/>
          <a:ext cx="2714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714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09680" y="4722840"/>
          <a:ext cx="2266920" cy="16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722840"/>
                    <a:ext cx="226692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Camco/GE: Home Depot Interface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76680" y="2057040"/>
            <a:ext cx="414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nline Data Interchange Strategy for e-commer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spond to Home Depot Transaction Request in real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sg Transport via HTT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sg Format - HTTP Head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338640" y="1490760"/>
            <a:ext cx="5729040" cy="39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458200" y="2514600"/>
            <a:ext cx="60948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267080" y="2438280"/>
          <a:ext cx="7336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7336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94200" y="3973680"/>
            <a:ext cx="43992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Apria Healthcare </a:t>
            </a:r>
            <a:br>
              <a:rPr sz="4400"/>
            </a:br>
            <a:br>
              <a:rPr sz="3600"/>
            </a:b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LANSA 2-way XML development partner</a:t>
            </a:r>
            <a:endParaRPr b="0" i="1" lang="en-US" sz="25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5124600"/>
            <a:ext cx="77155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ynamic XML transactions are used for interaction between live site and ERP system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171880"/>
            <a:ext cx="1619280" cy="1447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S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127240"/>
            <a:ext cx="1619280" cy="1447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ourc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62280" y="283860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70200" y="2352600"/>
            <a:ext cx="38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- transaction requ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99088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Order plac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rder stat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redit card verif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UPS tracking stat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Inventory avai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52240" y="3816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Apria Architecture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49360" y="762120"/>
          <a:ext cx="3693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762120"/>
                    <a:ext cx="3693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2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NSA Java Service Manager is used t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ceive reques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se XM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nd XML request data to LANSA fun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NSA Func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teract with core business syste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se Built In Functions to control JS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XML response back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090520" y="1967040"/>
            <a:ext cx="1200240" cy="2931840"/>
            <a:chOff x="2090520" y="1967040"/>
            <a:chExt cx="1200240" cy="2931840"/>
          </a:xfrm>
        </p:grpSpPr>
        <p:grpSp>
          <p:nvGrpSpPr>
            <p:cNvPr id="220" name=""/>
            <p:cNvGrpSpPr/>
            <p:nvPr/>
          </p:nvGrpSpPr>
          <p:grpSpPr>
            <a:xfrm>
              <a:off x="2090520" y="1967040"/>
              <a:ext cx="1200240" cy="2931840"/>
              <a:chOff x="2090520" y="1967040"/>
              <a:chExt cx="1200240" cy="293184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2919240" y="2214720"/>
                <a:ext cx="371520" cy="2684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0520" y="1967040"/>
                <a:ext cx="1174680" cy="61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 txBox="1"/>
            <p:nvPr/>
          </p:nvSpPr>
          <p:spPr>
            <a:xfrm>
              <a:off x="3087720" y="3363840"/>
              <a:ext cx="96840" cy="39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00160" y="1620720"/>
            <a:ext cx="1027080" cy="433440"/>
            <a:chOff x="1100160" y="1620720"/>
            <a:chExt cx="1027080" cy="433440"/>
          </a:xfrm>
        </p:grpSpPr>
        <p:sp>
          <p:nvSpPr>
            <p:cNvPr id="225" name=""/>
            <p:cNvSpPr/>
            <p:nvPr/>
          </p:nvSpPr>
          <p:spPr>
            <a:xfrm>
              <a:off x="1100160" y="1620720"/>
              <a:ext cx="1027080" cy="43344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579680" y="1666800"/>
              <a:ext cx="74520" cy="27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68320" y="2263680"/>
            <a:ext cx="1003320" cy="2597400"/>
            <a:chOff x="1768320" y="2263680"/>
            <a:chExt cx="1003320" cy="2597400"/>
          </a:xfrm>
        </p:grpSpPr>
        <p:sp>
          <p:nvSpPr>
            <p:cNvPr id="228" name=""/>
            <p:cNvSpPr/>
            <p:nvPr/>
          </p:nvSpPr>
          <p:spPr>
            <a:xfrm>
              <a:off x="1768320" y="2263680"/>
              <a:ext cx="1003320" cy="2597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347920" y="3722760"/>
              <a:ext cx="201600" cy="38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3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039680" y="1731960"/>
            <a:ext cx="29196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s Framework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The Java Services Framework (JSF) is a mechanism for assembling service components into Java server applications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Stage 1: Java Service Manager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(JSM) for LANSA for iSeries (AS/40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Stage 2: add Visual XML Wizar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Stage 3: port JSF to Visual LANSA (Windows)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ava Service Manager (JSM) for LANSA for iSe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omated A2A &amp; B2B integr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grates LANSA with Jav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ludes generic XML servi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, working list automatically exchang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tensible with user-developed Java clas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mplifies RDML development of XML ap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grates 3GL ILE applications with Jav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veloped in partnership with custom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Servic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A2A services :</a:t>
            </a: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XML Pars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Local IF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XML sour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XSL Transform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Native iSeries Clas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JSMDTAQ – DataQue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JSMMSGQ - MessageQue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JSMUSRSPCE - UserSp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iSeries conversion utilities – zoned, packed and text conver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Servic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B2B services :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MQSer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MTP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POP3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HTTP/HTT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XMLPars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Multiple XML sources (external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Local IF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XSL Transform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Servic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JSMDirect cg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Access JSM via LANSA BIF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Access JSM via 3GL cal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Integrate own Java class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Agenda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w B2B Models and Trading Partner Relationship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ustomer Scenario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is the Java Services Framework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Java Service Manager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ccessing Java from LANSA &amp; 3G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SMDir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rsing &amp; processing XML (2-way XM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ccessing your own Java clas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Java Service Manager Overview</a:t>
            </a:r>
            <a:endParaRPr b="0" i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523880"/>
            <a:ext cx="1467000" cy="2133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S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BIF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600200"/>
            <a:ext cx="1504800" cy="2152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362320"/>
            <a:ext cx="240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1752480"/>
            <a:ext cx="17337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ket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590920"/>
            <a:ext cx="247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2743200"/>
            <a:ext cx="217188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057400"/>
            <a:ext cx="1371600" cy="609480"/>
          </a:xfrm>
          <a:custGeom>
            <a:avLst/>
            <a:gdLst/>
            <a:ahLst/>
            <a:rect l="l" t="t" r="r" b="b"/>
            <a:pathLst>
              <a:path w="501" h="562">
                <a:moveTo>
                  <a:pt x="0" y="0"/>
                </a:moveTo>
                <a:lnTo>
                  <a:pt x="501" y="5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76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JSM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0348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500000">
            <a:off x="1675800" y="2057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500000">
            <a:off x="1296000" y="25909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142640" y="220932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240" y="236232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191120"/>
            <a:ext cx="1314720" cy="1447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267080" y="335232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67080" y="3657600"/>
            <a:ext cx="2438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100000">
            <a:off x="4263840" y="388584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ket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100000">
            <a:off x="4876560" y="411444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95520" y="984240"/>
            <a:ext cx="842760" cy="768240"/>
          </a:xfrm>
          <a:prstGeom prst="flowChartMagneticDisk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1295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C@W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16292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4419720"/>
            <a:ext cx="1524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B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TP, POP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/S, FTP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QSeri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Java Service Manager runs in a subsystem waiting for service requests (started by STRJSM command – auto creates CLASSPATH and starts a JVM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Can start multiple JSMs with different instance directory structure, different port, etc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Java Service Manager can run on a separate machine to the LANSA func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BIF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JSM_OPE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tarts an iSeries native thread in the Java Service Manager (so can take advantage of multiprocessor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Each client gets own thre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Open socket connection from application to Java Service Manag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495680"/>
            <a:ext cx="74674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Arial"/>
              </a:rPr>
              <a:t>USE        BUILTIN(JSM_OPEN) </a:t>
            </a:r>
            <a:r>
              <a:rPr b="0" lang="en-AU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WITH_ARGS(#JSMSR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       </a:t>
            </a:r>
            <a:r>
              <a:rPr b="0" lang="en-AU" sz="2000" spc="-1" strike="noStrike">
                <a:solidFill>
                  <a:srgbClr val="000099"/>
                </a:solidFill>
                <a:latin typeface="Verdana"/>
                <a:ea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Arial"/>
              </a:rPr>
              <a:t>TO_GET(#JSMSTS #JSMRSP</a:t>
            </a:r>
            <a:r>
              <a:rPr b="0" lang="en-AU" sz="2000" spc="-1" strike="noStrike">
                <a:solidFill>
                  <a:srgbClr val="000099"/>
                </a:solidFill>
                <a:latin typeface="Verdana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Verdana"/>
                <a:ea typeface="Times New Roman"/>
              </a:rPr>
              <a:t>Argument is optional - default remote host and port number is in data area JSMCLTDTA</a:t>
            </a:r>
            <a:r>
              <a:rPr b="0" lang="en-AU" sz="20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BIF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JSM_COMMA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Control th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behavior of the JAVA classes and send and receive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O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ional working list argu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RVICE_LOA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RVICE_UNLOAD (optional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User defined comman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CHANGE FIELD(#JSMCMD) TO('SERVICE_LOAD  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         SERVICE(EXAMPLE1)‘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USE       BUILTIN(JSM_COMMAND) 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         WITH_ARGS(#JSMCMD)     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Arial"/>
              </a:rPr>
              <a:t>         TO_GET(#JSMSTS #JSMMSG #WRKLST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BIF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SERVICE_LOA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structs the JSM service thread to load and instantiate the specified service clas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Only one service class loaded at a t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Can load/unload service class within one fun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torage object available or can write to a file to share data between servi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Ready to process commands for servi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arches service.properties file to locate class fi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 Manager BIF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JSM_CLO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End socket conne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Last byte array response is written to stdout (HTTP user agent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USE   BUILTIN(JSM_CLOS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O_GET(#JSMSTS #JSMMSG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3GL Interface to JSM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LE client programs use the same API calls as the LANSA B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JSMOPEN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Open Servi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JSMCLOSE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Close Servi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JSMCMD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end comman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JSMCMDX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end command and byte 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rr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Example 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* Send command and data to servic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MOVEL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'MYCMD'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JSMCM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ALLB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'JSMCMDX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PARM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JSMCM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PARM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BYTEDAT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PARM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BYTELENG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PARM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JSMST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PARM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JSMMS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 Service Registra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/jsm/instance/system</a:t>
            </a: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rvice.properties fi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e.g. xmlclient servi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rvice.xmlclient = com.lansa.jsm.service.XMLParserServi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resource.xmlclient = xmlParserServi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trace.address.xmlclient = *all (trace all clients or specific ip addres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1828800"/>
            <a:ext cx="1295280" cy="1143000"/>
          </a:xfrm>
          <a:prstGeom prst="downArrowCallout">
            <a:avLst>
              <a:gd name="adj1" fmla="val 28333"/>
              <a:gd name="adj2" fmla="val 28331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1828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va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09680"/>
            <a:ext cx="2057400" cy="1067040"/>
          </a:xfrm>
          <a:prstGeom prst="rightArrowCallout">
            <a:avLst>
              <a:gd name="adj1" fmla="val 25002"/>
              <a:gd name="adj2" fmla="val 25000"/>
              <a:gd name="adj3" fmla="val 32136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133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rvice Property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3733920"/>
            <a:ext cx="2286000" cy="1218960"/>
          </a:xfrm>
          <a:prstGeom prst="upArrowCallout">
            <a:avLst>
              <a:gd name="adj1" fmla="val 46888"/>
              <a:gd name="adj2" fmla="val 46884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4191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ource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 Service Registra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99"/>
                </a:solidFill>
                <a:latin typeface="Arial"/>
              </a:rPr>
              <a:t>/jsm/instance/system/service.proper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2209680"/>
            <a:ext cx="708660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xmlclient=com.lansa.jsm.service.A2AService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xmlclient=com.lansa.jsm.service.XMLParserService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ftpclient=com.lansa.jsm.service.FTPService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popclient=com.lansa.jsm.service.POP3MailService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smtpclient=com.lansa.jsm.service.SMTPMailService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.httpclient=com.lansa.jsm.service.HTTPService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ource.xmlclient=XMLParserServic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ource.ftpclient=FTPService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ource.popclient=POP3MailServic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ource.smtpclient=SMTPMailServic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ource.httpclient=HTTP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# trace.address.xmlclient=*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 Service Registra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Arial"/>
              </a:rPr>
              <a:t>/jsm/instance/properties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Resource files for services e.g. service default values and error mess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Internationalisation so resource names with subscript _en (English) _fr (French) as per standard Java language and country co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Resource file configured so that it is extern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Available to JSM service via JSMContainer.getServiceResource() metho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914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a15e"/>
                </a:solidFill>
                <a:latin typeface="Arial"/>
              </a:rPr>
              <a:t>Constantly changing IT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Applications Evolu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210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st centr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ata Modeling, CASE Technolog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I, VAN’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ata Warehou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siness Intelligence, Knowledge Mgm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ent/Serv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 tier, 3 tier, fat client, thin cli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LAP, EIS, D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Business, eCommerce, eEveryth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 Service Registra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99"/>
                </a:solidFill>
                <a:latin typeface="Arial"/>
              </a:rPr>
              <a:t>/jsm/instance/properties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examples</a:t>
            </a: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590920"/>
            <a:ext cx="617220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XMLParserService.proper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ta.xsl.order=xsl/order.xsl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ssage.001=Service successfully loade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ssage.002=Service successfully unloa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MTPMailService.propertie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ta.server=nnn.nnn.nnn.nnn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ta.fromAddress=name1.name2@lansa.com.a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ssage.001=Service successfully loaded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ssage.002=Service successfully unloa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MDirect</a:t>
            </a: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1523880"/>
            <a:ext cx="1467000" cy="2133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uns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e)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1600200"/>
            <a:ext cx="1504800" cy="2152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2362320"/>
            <a:ext cx="240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1752480"/>
            <a:ext cx="17337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ket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2590920"/>
            <a:ext cx="2476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2743200"/>
            <a:ext cx="217188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_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057400"/>
            <a:ext cx="1371600" cy="609480"/>
          </a:xfrm>
          <a:custGeom>
            <a:avLst/>
            <a:gdLst/>
            <a:ahLst/>
            <a:rect l="l" t="t" r="r" b="b"/>
            <a:pathLst>
              <a:path w="501" h="562">
                <a:moveTo>
                  <a:pt x="0" y="0"/>
                </a:moveTo>
                <a:lnTo>
                  <a:pt x="501" y="5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676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JSM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0348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500000">
            <a:off x="1675800" y="2057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500000">
            <a:off x="1296000" y="25909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142640" y="220932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240" y="236232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23880" y="990720"/>
            <a:ext cx="1067040" cy="685800"/>
            <a:chOff x="1523880" y="990720"/>
            <a:chExt cx="1067040" cy="685800"/>
          </a:xfrm>
        </p:grpSpPr>
        <p:sp>
          <p:nvSpPr>
            <p:cNvPr id="309" name=""/>
            <p:cNvSpPr/>
            <p:nvPr/>
          </p:nvSpPr>
          <p:spPr>
            <a:xfrm>
              <a:off x="1600200" y="990720"/>
              <a:ext cx="838080" cy="68580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130248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DC@W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38280" y="11430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 -&gt;LANSA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3886200"/>
            <a:ext cx="44956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RVICE_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ill add HTTP variables as extra key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ST name/value pairs will be passed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aw stdin (POST/GET payload) is passed through to J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40384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SM_CLOSE required so Byte Array response is written to 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Direct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TTP service extension to JSM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llows a LANSA/JSM function to participate in Web services and B2B transactions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xampl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http://mycompany/cgi-bin/jsmdirect?orderentr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Locate function to execute, partition and language in file DC@W29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_LOAD will be modified with HTTP details e.g. REQUEST_METHOD(method), QUERY_STRING(querystring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SMDirect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Access to STDIN is via the command.getByteArray() if POS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Write STDOUT via returning a  new JSMResponse(ByteArray). </a:t>
            </a: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The STDOUT response must be compatible with the HTTP user agent, usually EBCDIC data (the Web Server will translat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File uploads via content payload e.g. XM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SOAP transactions -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TTP_SOAPACTION(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oapacti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 on SERVICE_LOA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99"/>
                </a:solidFill>
                <a:latin typeface="Arial"/>
              </a:rPr>
              <a:t>2-way XML </a:t>
            </a:r>
            <a:endParaRPr b="0" i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1523880"/>
            <a:ext cx="1467000" cy="2133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1600200"/>
            <a:ext cx="2895480" cy="2819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9112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213372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s, working 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84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2590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133720"/>
            <a:ext cx="1066680" cy="533160"/>
          </a:xfrm>
          <a:custGeom>
            <a:avLst/>
            <a:gdLst/>
            <a:ahLst/>
            <a:rect l="l" t="t" r="r" b="b"/>
            <a:pathLst>
              <a:path w="501" h="562">
                <a:moveTo>
                  <a:pt x="0" y="0"/>
                </a:moveTo>
                <a:lnTo>
                  <a:pt x="501" y="5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1676520"/>
            <a:ext cx="16765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2B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(JSMDirect or B2B 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3480" y="34704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500000">
            <a:off x="1904400" y="2057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500000">
            <a:off x="1525320" y="2590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523520" y="2361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523880" y="990720"/>
            <a:ext cx="1067040" cy="685800"/>
            <a:chOff x="1523880" y="990720"/>
            <a:chExt cx="1067040" cy="685800"/>
          </a:xfrm>
        </p:grpSpPr>
        <p:sp>
          <p:nvSpPr>
            <p:cNvPr id="332" name=""/>
            <p:cNvSpPr/>
            <p:nvPr/>
          </p:nvSpPr>
          <p:spPr>
            <a:xfrm>
              <a:off x="1600200" y="990720"/>
              <a:ext cx="838080" cy="685800"/>
            </a:xfrm>
            <a:prstGeom prst="flowChartMagneticDisk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130248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400" spc="-1" strike="noStrike">
                  <a:solidFill>
                    <a:srgbClr val="000000"/>
                  </a:solidFill>
                  <a:latin typeface="Arial"/>
                </a:rPr>
                <a:t>DC@W2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438280" y="11430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rvice -&gt;LANSA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4038480"/>
            <a:ext cx="23619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ach command will exchange all fields and a working list that can be populated from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480060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va Service Manager can be executing across machine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M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1752480"/>
            <a:ext cx="129528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.g. c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4680" y="18288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20574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unction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1520" y="1905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066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3124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33526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unction 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152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91520" y="3276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429000"/>
            <a:ext cx="1676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e JSMDirect for LA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2B protocol for 3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2-way XML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Following is a sample RDML function to process transformed XM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  <a:ea typeface="Arial"/>
              </a:rPr>
              <a:t>This example has its fields and working list populated from order.xml</a:t>
            </a:r>
            <a:br>
              <a:rPr sz="2800"/>
            </a:b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  <a:ea typeface="Arial"/>
              </a:rPr>
              <a:t>order.xsl is used to transform the xml to rdml:function xml so binding can occur to function fields and working list fields i.e. the data has been “flattened”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order.xml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!DOCTYPE Orders SYSTEM "order.dtd"  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Orders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SalesOrder SONumber="12345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Customer CustNumber="543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CustName&gt;ABC Industries&lt;/CustNam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Street&gt;123 Main St.&lt;/Street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City&gt;Chicago&lt;/City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State&gt;IL&lt;/Stat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PostCode&gt;60609&lt;/PostCod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Customer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OrderDate&gt;981215&lt;/OrderDat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Line LineNumber="1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Part PartNumber="123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Description&gt;Turkey wrench&lt;/Description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Price&gt;9.95&lt;/Pric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Part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Quantity&gt;10&lt;/Quantity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Lin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Line LineNumber="2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Part PartNumber="456"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Description&gt;Stuffing separator&lt;/Description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Price&gt;13.27&lt;/Pric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Part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Quantity&gt;5&lt;/Quantity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Line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SalesOrder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99"/>
                </a:solidFill>
                <a:latin typeface="Arial"/>
              </a:rPr>
              <a:t>&lt;/Orders&gt;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order.xsl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?xml version="1.0" encoding="UTF-8"?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stylesheet version="1.0" xmlns:xsl="http://www.w3.org/1999/XSL/Transform" xmlns:rdml="http://www.lansa.com/2000/XML/Function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output method="xml" indent="yes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Find out who sent this xml transaction, using an absolute reference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variable name="customer"&gt;&lt;xsl:value-of select="/Orders/SalesOrder/Customer/@CustNumber"/&gt;&lt;/xsl:variabl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template match="/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unction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Prepare 1:1 field data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s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Add some extra data not in source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choos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when test="$customer = '543'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STATUS" value="EXPRESS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when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otherwis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STATUS" value="STANDARD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otherwis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choos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Use a direct and absolute approach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ORDER" value="{/Orders/SalesOrder/@SONumber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Use a match template approach 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apply-templates select="/Orders/SalesOrder/Customer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fields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order.xsl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Prepare 1:many list data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list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Process each occurance of Line tag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for-each select="/Orders/SalesOrder/Line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LINENUM" value="{@LineNumber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ARTNUM" value="{Part/@PartNumber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ARTDSC" value="{Part/Description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ARTAMT" value="{Part/Price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ARTQTY" value="{Quantity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This field is being used as a working list filler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ARTCAT" value="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for-each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list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function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templat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xsl:template match="/Orders/SalesOrder/Customer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NAME" value="{CustName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STREET" value="{Street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CITY" value="{City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STATE" value="{State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ZIP" value="{PostCode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!-- This illustrates what happens when a tag is missing --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name="PHONE" value="{Phone}" 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template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xsl:stylesheet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function.xml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?xml version="1.0" encoding="UTF-8"?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unction xmlns:rdml="http://www.lansa.com/2000/XML/Function"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s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EXPRESS" name="STATUS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2345" name="ORDER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ABC Industries" name="NAME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23 Main St." name="STREET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Chicago" name="CITY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IL" name="STATE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60609" name="ZIP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" name="PHONE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fields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list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" name="LINENUM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23" name="PARTNUM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Turkey wrench" name="PARTDSC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9.95" name="PARTAMT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0" name="PARTQTY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" name="PARTCAT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2" name="LINENUM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456" name="PARTNUM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Stuffing separator" name="PARTDSC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13.27" name="PARTAMT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5" name="PARTQTY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rdml:field value="" name="PARTCAT"/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entry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list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Arial"/>
              </a:rPr>
              <a:t>&lt;/rdml:function&gt;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36160" y="37800"/>
            <a:ext cx="56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eCommerce Evolu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 Establish a Web Pres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pany information, marketing materia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 Add Some Intelligenc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asic form entry and sear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10320" y="3276720"/>
            <a:ext cx="8517240" cy="3352320"/>
            <a:chOff x="310320" y="3276720"/>
            <a:chExt cx="8517240" cy="3352320"/>
          </a:xfrm>
        </p:grpSpPr>
        <p:sp>
          <p:nvSpPr>
            <p:cNvPr id="66" name=""/>
            <p:cNvSpPr/>
            <p:nvPr/>
          </p:nvSpPr>
          <p:spPr>
            <a:xfrm>
              <a:off x="929160" y="3276720"/>
              <a:ext cx="7898400" cy="33523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.  E-Business, E-Commerce functiona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ll bus. application integration with B2B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.  eCRM, personalization, Live Customer 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.  2 way XML, e-partnerships,   eMarketpla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0320" y="3276720"/>
              <a:ext cx="667080" cy="33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hould be tightly coupled with LOB 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Sample RDML func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********** Beginning of RDML commands **********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FUNCTION   OPTIONS(*DIRECT)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JSMSTS) TYPE(*CHAR) LENGTH(20)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JSMMSG) TYPE(*CHAR) LENGTH(255)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JSMCMD) TYPE(*CHAR) LENGTH(255) INPUT_ATR(LC)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STATUS) TYPE(*CHAR) LENGTH(10)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ORDER) TYPE(*CHAR) LENGTH(10)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NAME) TYPE(*CHAR) LENGTH(50)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STREET) TYPE(*CHAR) LENGTH(50)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CITY) TYPE(*CHAR) LENGTH(50)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STATE) TYPE(*CHAR) LENGTH(5)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ZIP) TYPE(*CHAR) LENGTH(5)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HONE) TYPE(*CHAR) LENGTH(20)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LINENUM) TYPE(*DEC) LENGTH(3) DECIMALS(0)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ARTNUM) TYPE(*DEC) LENGTH(3) DECIMALS(0)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ARTDSC) TYPE(*CHAR) LENGTH(50)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ARTAMT) TYPE(*DEC) LENGTH(10) DECIMALS(2)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ARTQTY) TYPE(*DEC) LENGTH(3) DECIMALS(0)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INE     FIELD(#PARTCAT) TYPE(*CHAR) LENGTH(5)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EF_LIST   NAME(#WRKLST) FIELDS((#LINENUM) (#PARTNUM) #PARTDSC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    (#PARTAMT) (#PARTQTY) (#PARTCAT)) TYPE(*WORKING)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Sample RDML func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066680"/>
            <a:ext cx="8076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Courier New"/>
                <a:ea typeface="Arial"/>
              </a:rPr>
              <a:t>********** 'Open service'                                        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Courier New"/>
                <a:ea typeface="Arial"/>
              </a:rPr>
              <a:t> USE        BUILTIN(JSM_OPEN) TO_GET(#JSMSTS #JSMMSG)             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Courier New"/>
                <a:ea typeface="Arial"/>
              </a:rPr>
              <a:t> EXECUTE    SUBROUTINE(CHECK) WITH_PARMS(#JSMSTS JSMMSG)         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********** 'Load service'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CHANGE     FIELD(#JSMCMD) TO('SERVICE_LOAD SERVICE(EXAMPLE1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SERVICE_LIST(LINENUM,PARTNUM,PARTDSC,PARTAMT,PARTQTY,PARTCAT)'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USE        BUILTIN(JSM_COMMAND) WITH_ARGS(#JSMCMD) TO_GET(#JSMSTS #JSMMSG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#WRKLST)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EXECUTE    SUBROUTINE(CHECK) WITH_PARMS(#JSMSTS #JSMMSG)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 Display XML order data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ISPLAY    FIELDS((#STATUS) (#ORDER) (#NAME) (#STREET) (#CITY) (#STATE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    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	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(#ZIP) (#PHONE))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SELECTLIST NAMED(#WRKLST)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**********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DISPLAY    FIELDS((#LINENUM) (#PARTNUM) (#PARTDSC) (#PARTAMT) (#PARTQTY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          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#PARTCAT))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ENDSELECT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Sample RDML function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1066680"/>
            <a:ext cx="80769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**********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 'Close service'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USE        BUILTIN(JSM_CLOSE) TO_GET(#JSMSTS #JSMMSG)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EXECUTE    SUBROUTINE(CHECK) WITH_PARMS(#JSMSTS #JSMMSG)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 SUB ROUTINES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SUBROUTINE NAME(CHECK) PARMS((#JSMSTS *RECEIVED) (#JSMMSG *RECEIVED))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IF         COND('#JSMSTS *NE OK')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DISPLAY    FIELDS((#JSMSTS) (#JSMMSG))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USE        BUILTIN(JSM_CLOSE) TO_GET(#JSMSTS #JSMMSG)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EXIT       MSGTXT('Java service error has occurred)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ENDIF     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**********                                            </a:t>
            </a:r>
            <a:br>
              <a:rPr sz="1200"/>
            </a:b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ENDROUTINE                                           </a:t>
            </a:r>
            <a:r>
              <a:rPr b="0" lang="en-AU" sz="1200" spc="-1" strike="noStrike">
                <a:solidFill>
                  <a:srgbClr val="000099"/>
                </a:solidFill>
                <a:latin typeface="Courier New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ackage com.lansa.jsm.service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import java.io.*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import java.util.*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import com.lansa.jsm.*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ublic class ExampleJSMDirectService implements JSMService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ublic ExampleJSMDirectService (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ublic void service ( JSMContainer container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ublic JSMResponse command ( JSMCommand command ) throws JSMException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if ( command.equals ( JSMCommand.LOAD )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bindExample ( command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new JSMResponse ( JSMResponse.ERROR, "Unknown command"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rivate JSMResponse bindExample ( JSMCommand command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tr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/*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Use an already prepared XML source, this was a copy of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the TRANSFORM created by the useragent PO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*/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//            byte[] byteArrayInput = command.getByteArray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//            Get stdinput from JSMDirect and transform using order.xsl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byte[] byteArrayInput = readFile ( "function.xml"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FunctionDataBindHelper helper = new FunctionDataBindHelper ( byteArrayInput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JSMList list = command.getList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JSMFieldList fieldList = command.getFieldList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list.clear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helper.set ( list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helper.set ( fieldList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new JSMResponse ( fieldList, list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catch ( IOException e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new JSMResponse ( JSMResponse.ERROR, e.getMessage ()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catch ( SAXException e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new JSMResponse ( JSMResponse.ERROR, e.getMessage ()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   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service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/*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ad local IFS file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*/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private byte[] readFile ( String fileName ) throws IOException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int c = 0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ByteArrayOutputStream byteArray = new ByteArrayOutputStream ( 1000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FileInputStream file = new FileInputStream ( fileName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while ( ( c = file.read() ) != -1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byteArray.write ( c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file.close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return byteArray.toByteArray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5224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Accessing your own </a:t>
            </a:r>
            <a:br>
              <a:rPr sz="4400"/>
            </a:b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class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Implement the JSM Service interfa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service method – called once when class is load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command method – called every time you send a command (i.e. use the BIF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"/>
              </a:rPr>
              <a:t>Data is a command objec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For individual classes FTP to the classes subdirecto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For a jar file FTP to the jar directo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JSM will build classpath when it starts!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Accessing your own</a:t>
            </a:r>
            <a:br>
              <a:rPr sz="4400"/>
            </a:b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 Java class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Update service.properties file to register the serv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Optimise the class or j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Write LANSA function using the BIFs to access the Java serv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Access Java service from 3GL ILE program using service progra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Example: customer bought a credit card validation class and required access from RP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Accessing your own </a:t>
            </a:r>
            <a:br>
              <a:rPr sz="4400"/>
            </a:b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Java class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ackage com.mycompany.jsm.service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import com.lansa.jsm.*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ublic class MyService implements JSMService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rivate JSMResource serviceResource = null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……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……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ublic MyService (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ublic void service ( JSMContainer container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this.serviceResource = container.getServiceResource (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public JSMResponse command ( JSMCommand command ) throws JSMException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if ( command.equals ( JSMCommand.LOAD )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return new JSMResponse ( serviceResource.getResource ( "message.001" )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if ( command.equals (  “CHECKCREDIT”  ) 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return CheckCreditCard ( command ) 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……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……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Accessing your own</a:t>
            </a:r>
            <a:br>
              <a:rPr sz="4400"/>
            </a:b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 Java class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210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JAVA service developer takes any complex task or protocol and simplifies to a series of comman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LANSA developer only needs to understand how to use the commands offered by a JAVA serv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B2B Models (per IBM)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4120" y="3505320"/>
            <a:ext cx="3438360" cy="3038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376360" cy="177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95280" y="1219320"/>
            <a:ext cx="2113200" cy="169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4330440" cy="13381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828800" y="4876920"/>
            <a:ext cx="1960560" cy="1271520"/>
            <a:chOff x="1828800" y="4876920"/>
            <a:chExt cx="1960560" cy="1271520"/>
          </a:xfrm>
        </p:grpSpPr>
        <p:sp>
          <p:nvSpPr>
            <p:cNvPr id="74" name=""/>
            <p:cNvSpPr/>
            <p:nvPr/>
          </p:nvSpPr>
          <p:spPr>
            <a:xfrm>
              <a:off x="2719080" y="5232600"/>
              <a:ext cx="654120" cy="5601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20013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c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04720" y="5079960"/>
              <a:ext cx="297000" cy="254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8720" y="4876920"/>
              <a:ext cx="296640" cy="254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63760" y="5691240"/>
              <a:ext cx="296640" cy="254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360" y="5079960"/>
              <a:ext cx="297000" cy="254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33680" y="5691240"/>
              <a:ext cx="296640" cy="254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8720" y="5894640"/>
              <a:ext cx="296640" cy="253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75" idx="6"/>
              <a:endCxn id="74" idx="1"/>
            </p:cNvCxnSpPr>
            <p:nvPr/>
          </p:nvCxnSpPr>
          <p:spPr>
            <a:xfrm>
              <a:off x="2601360" y="5207040"/>
              <a:ext cx="214920" cy="10872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cxnSp>
          <p:nvCxnSpPr>
            <p:cNvPr id="82" name=""/>
            <p:cNvCxnSpPr>
              <a:stCxn id="76" idx="4"/>
              <a:endCxn id="74" idx="0"/>
            </p:cNvCxnSpPr>
            <p:nvPr/>
          </p:nvCxnSpPr>
          <p:spPr>
            <a:xfrm>
              <a:off x="3045960" y="5131080"/>
              <a:ext cx="1080" cy="10224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cxnSp>
          <p:nvCxnSpPr>
            <p:cNvPr id="83" name=""/>
            <p:cNvCxnSpPr>
              <a:stCxn id="78" idx="2"/>
              <a:endCxn id="74" idx="7"/>
            </p:cNvCxnSpPr>
            <p:nvPr/>
          </p:nvCxnSpPr>
          <p:spPr>
            <a:xfrm flipH="1">
              <a:off x="3277440" y="5207040"/>
              <a:ext cx="214920" cy="10872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cxnSp>
          <p:nvCxnSpPr>
            <p:cNvPr id="84" name=""/>
            <p:cNvCxnSpPr>
              <a:stCxn id="74" idx="4"/>
              <a:endCxn id="80" idx="0"/>
            </p:cNvCxnSpPr>
            <p:nvPr/>
          </p:nvCxnSpPr>
          <p:spPr>
            <a:xfrm>
              <a:off x="3045960" y="5792400"/>
              <a:ext cx="1080" cy="10260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cxnSp>
          <p:nvCxnSpPr>
            <p:cNvPr id="85" name=""/>
            <p:cNvCxnSpPr>
              <a:stCxn id="74" idx="3"/>
              <a:endCxn id="77" idx="6"/>
            </p:cNvCxnSpPr>
            <p:nvPr/>
          </p:nvCxnSpPr>
          <p:spPr>
            <a:xfrm flipH="1">
              <a:off x="2660400" y="5710320"/>
              <a:ext cx="155880" cy="10872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cxnSp>
          <p:nvCxnSpPr>
            <p:cNvPr id="86" name=""/>
            <p:cNvCxnSpPr>
              <a:stCxn id="74" idx="5"/>
              <a:endCxn id="79" idx="2"/>
            </p:cNvCxnSpPr>
            <p:nvPr/>
          </p:nvCxnSpPr>
          <p:spPr>
            <a:xfrm>
              <a:off x="3278160" y="5710320"/>
              <a:ext cx="155880" cy="108720"/>
            </a:xfrm>
            <a:prstGeom prst="straightConnector1">
              <a:avLst/>
            </a:prstGeom>
            <a:ln w="12600">
              <a:solidFill>
                <a:srgbClr val="808080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1828800" y="5384880"/>
              <a:ext cx="4759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990099"/>
                </a:solidFill>
                <a:latin typeface="Arial"/>
              </a:rPr>
              <a:t>Additional JSM Featur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Trac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Trace files created in the trace subdirector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Set system tracing in the manager.properties fi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anager tracing outputs information about the instance being starte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Standard output (STDOUT) and standard error (STDERR) will be printed to the JSM output que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lient command tracing traces commands being sent from the client program to the JSM instance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 program tracing set in service.properties fi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he JSMTrace object allows the service program to output tracing information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Code page handling – native encoding of the client program (CCSID of job for iSeries) used to convert to/from Unico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ava Services</a:t>
            </a:r>
            <a:br>
              <a:rPr sz="4400"/>
            </a:b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 Framework Stag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ge 1: Java Service Manager (JSM) for LANSA for iSer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neric XML services to parse/transform XM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elds, working list automatically exchang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tensible with user-developed Java clas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ge 2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: add Visual XML Wizar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ML Sch</a:t>
            </a:r>
            <a:r>
              <a:rPr b="0" lang="en-AU" sz="2000" spc="-1" strike="noStrike">
                <a:solidFill>
                  <a:srgbClr val="000099"/>
                </a:solidFill>
                <a:latin typeface="Arial"/>
              </a:rPr>
              <a:t>emas or XML documents mapped to LANSA functions, fields, working lis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ge 3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: port JSF to Visual LANSA (Windows)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ge 1</a:t>
            </a: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 available now under beta agreement!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F Visual XML Wizard</a:t>
            </a:r>
            <a:br>
              <a:rPr sz="4400"/>
            </a:b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Open Visual XML Project</a:t>
            </a:r>
            <a:r>
              <a:rPr b="0" i="1" lang="en-US" sz="2400" spc="-1" strike="noStrike" u="sng">
                <a:solidFill>
                  <a:srgbClr val="990099"/>
                </a:solidFill>
                <a:uFillTx/>
                <a:latin typeface="Arial"/>
              </a:rPr>
              <a:t>  </a:t>
            </a:r>
            <a:endParaRPr b="0" i="1" lang="en-US" sz="2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629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F Visual XML Wizard</a:t>
            </a:r>
            <a:br>
              <a:rPr sz="4400"/>
            </a:b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XML schema</a:t>
            </a:r>
            <a:endParaRPr b="0" i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59846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F Visual XML Wizard</a:t>
            </a:r>
            <a:br>
              <a:rPr sz="4400"/>
            </a:b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Point-and-click creation of XML mapping</a:t>
            </a:r>
            <a:endParaRPr b="0" i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0958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F Visual XML Wizard</a:t>
            </a:r>
            <a:br>
              <a:rPr sz="4400"/>
            </a:b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LANSA fields &amp; working lists</a:t>
            </a:r>
            <a:endParaRPr b="0" i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001000" cy="2286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04920" y="4229280"/>
            <a:ext cx="807696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2240" y="37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JSF Visual XML Wizard</a:t>
            </a:r>
            <a:br>
              <a:rPr sz="4400"/>
            </a:b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XSL Stylesheet created</a:t>
            </a:r>
            <a:endParaRPr b="0" i="1" lang="en-US" sz="28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Model 1: Supplier B2B </a:t>
            </a:r>
            <a:br>
              <a:rPr sz="4400"/>
            </a:b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Sit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112840" cy="169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5584680" cy="37227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415880" y="3276720"/>
            <a:ext cx="7728120" cy="3495240"/>
            <a:chOff x="1415880" y="3276720"/>
            <a:chExt cx="7728120" cy="3495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981760" y="4309920"/>
              <a:ext cx="2057400" cy="15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162920" y="4271760"/>
              <a:ext cx="1782720" cy="13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6792840" y="5378400"/>
              <a:ext cx="1917720" cy="13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SmartWeb%20Logo" descr=""/>
            <p:cNvPicPr/>
            <p:nvPr/>
          </p:nvPicPr>
          <p:blipFill>
            <a:blip r:embed="rId6"/>
            <a:stretch/>
          </p:blipFill>
          <p:spPr>
            <a:xfrm>
              <a:off x="1415880" y="4991040"/>
              <a:ext cx="5486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CE%20drive%20e-biz%20large" descr=""/>
            <p:cNvPicPr/>
            <p:nvPr/>
          </p:nvPicPr>
          <p:blipFill>
            <a:blip r:embed="rId7"/>
            <a:stretch/>
          </p:blipFill>
          <p:spPr>
            <a:xfrm>
              <a:off x="6189840" y="3276720"/>
              <a:ext cx="2954160" cy="90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Model 3: e-Marketplace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41880" y="1144440"/>
            <a:ext cx="3102120" cy="2741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280" y="1658880"/>
            <a:ext cx="6004080" cy="3827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5880" y="444492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09480" y="2438280"/>
            <a:ext cx="8215560" cy="2098440"/>
            <a:chOff x="609480" y="2438280"/>
            <a:chExt cx="8215560" cy="20984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609480" y="3412800"/>
              <a:ext cx="192564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6967440" y="2909520"/>
              <a:ext cx="18576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2716200" y="2438280"/>
              <a:ext cx="182088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Key Factor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05320" y="3048120"/>
            <a:ext cx="2573280" cy="425160"/>
            <a:chOff x="3505320" y="3048120"/>
            <a:chExt cx="2573280" cy="425160"/>
          </a:xfrm>
        </p:grpSpPr>
        <p:sp>
          <p:nvSpPr>
            <p:cNvPr id="106" name=""/>
            <p:cNvSpPr/>
            <p:nvPr/>
          </p:nvSpPr>
          <p:spPr>
            <a:xfrm>
              <a:off x="4780080" y="3054240"/>
              <a:ext cx="1298520" cy="358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505320" y="3048120"/>
              <a:ext cx="2416320" cy="42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761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Message Forma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8120" y="3581280"/>
            <a:ext cx="3786120" cy="952560"/>
            <a:chOff x="3048120" y="3581280"/>
            <a:chExt cx="3786120" cy="952560"/>
          </a:xfrm>
        </p:grpSpPr>
        <p:sp>
          <p:nvSpPr>
            <p:cNvPr id="109" name=""/>
            <p:cNvSpPr/>
            <p:nvPr/>
          </p:nvSpPr>
          <p:spPr>
            <a:xfrm>
              <a:off x="3048120" y="3581280"/>
              <a:ext cx="3786120" cy="952560"/>
            </a:xfrm>
            <a:prstGeom prst="leftRightArrow">
              <a:avLst>
                <a:gd name="adj1" fmla="val 50000"/>
                <a:gd name="adj2" fmla="val 7912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5440" y="3887640"/>
              <a:ext cx="1796760" cy="32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ranspor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5800" y="4648320"/>
            <a:ext cx="8193240" cy="1493640"/>
            <a:chOff x="685800" y="4648320"/>
            <a:chExt cx="8193240" cy="1493640"/>
          </a:xfrm>
        </p:grpSpPr>
        <p:grpSp>
          <p:nvGrpSpPr>
            <p:cNvPr id="112" name=""/>
            <p:cNvGrpSpPr/>
            <p:nvPr/>
          </p:nvGrpSpPr>
          <p:grpSpPr>
            <a:xfrm>
              <a:off x="685800" y="4648320"/>
              <a:ext cx="8193240" cy="761400"/>
              <a:chOff x="685800" y="4648320"/>
              <a:chExt cx="8193240" cy="761400"/>
            </a:xfrm>
          </p:grpSpPr>
          <p:sp>
            <p:nvSpPr>
              <p:cNvPr id="113" name=""/>
              <p:cNvSpPr/>
              <p:nvPr/>
            </p:nvSpPr>
            <p:spPr>
              <a:xfrm>
                <a:off x="685800" y="4655880"/>
                <a:ext cx="1843200" cy="7538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mm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35840" y="4648320"/>
                <a:ext cx="1843200" cy="7538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mm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Servi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98400" y="5450040"/>
              <a:ext cx="1843200" cy="691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g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35840" y="5442120"/>
              <a:ext cx="1843200" cy="691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g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Trading Partners </a:t>
            </a:r>
            <a:br>
              <a:rPr sz="4400"/>
            </a:b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- Dynamic Transaction Exchange</a:t>
            </a:r>
            <a:br>
              <a:rPr sz="3700"/>
            </a:br>
            <a:r>
              <a:rPr b="0" i="1" lang="en-US" sz="3700" spc="-1" strike="noStrike">
                <a:solidFill>
                  <a:srgbClr val="000000"/>
                </a:solidFill>
                <a:latin typeface="Arial"/>
              </a:rPr>
              <a:t>- Interoperability between Applications</a:t>
            </a: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Dynamic Trading</a:t>
            </a:r>
            <a:br>
              <a:rPr sz="4400"/>
            </a:br>
            <a:r>
              <a:rPr b="0" i="1" lang="en-US" sz="4400" spc="-1" strike="noStrike">
                <a:solidFill>
                  <a:srgbClr val="990099"/>
                </a:solidFill>
                <a:latin typeface="Arial"/>
              </a:rPr>
              <a:t>Relationships</a:t>
            </a:r>
            <a:endParaRPr b="0" i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7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ssage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reed upon format (XML/DTD or HTML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dentify supported transactions, layou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ransport Metho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nd Messages via Internet: HTTP, FT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ddleware like MQ Series, CORBA, DCO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mand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ssage processing or request/response engin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ckets or Java interfaces, XSL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NSA JSM!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lication Integr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ynamic transaction processing means full integration with L.O.B. applic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NSA’s strength!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6:06:36Z</dcterms:created>
  <dc:creator>Diane Joester</dc:creator>
  <dc:description/>
  <dc:language>en-US</dc:language>
  <cp:lastModifiedBy>Mercedes</cp:lastModifiedBy>
  <dcterms:modified xsi:type="dcterms:W3CDTF">2001-09-05T07:46:45Z</dcterms:modified>
  <cp:revision>137</cp:revision>
  <dc:subject/>
  <dc:title>Java Services Framework</dc:title>
</cp:coreProperties>
</file>